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BB43-0492-4075-90EF-038EFC55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4DB9-54A9-4BA4-BD93-494E569C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2596-8021-4C58-BF11-D197E556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3D7A-FE7C-40C3-B90C-562C6B6F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02D5-B463-4A54-82DC-C97BA602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D324-2F5D-40CA-BFB1-26C44714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D21A-3E1A-4513-8DA1-9F91071F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00E3-E80D-4338-B8CF-A9995EE3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BD8E-D7A3-4B0D-A184-F8673158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E111-33C0-4418-B860-8E84EECD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A5DA-99E0-4692-92FA-029451CC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8F4C-0DBD-4C77-ADA9-B5141767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1F8F-DE99-4135-8180-BE3D9A5F1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Desig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osition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lves changing a product’s image in relation to its competitor’s im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www.prlog.org/10748511-new-balance-shoesdiscount-shoes-best-shoes-deals.jpg"/>
          <p:cNvPicPr/>
          <p:nvPr/>
        </p:nvPicPr>
        <p:blipFill>
          <a:blip r:embed="rId1"/>
          <a:stretch/>
        </p:blipFill>
        <p:spPr>
          <a:xfrm>
            <a:off x="2514600" y="3276720"/>
            <a:ext cx="36860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icing and Strate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ce – the value placed on the goods or services being exchang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ce is important because it helps determine a company’s profit or l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the target market willing to pa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any purchased 1,000 bats for $90 each and sold them for $175 each. How much money did the company mak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traight Connector 4"/>
          <p:cNvSpPr/>
          <p:nvPr/>
        </p:nvSpPr>
        <p:spPr>
          <a:xfrm>
            <a:off x="457200" y="3733920"/>
            <a:ext cx="8229600" cy="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239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ricing Consideration and Strategi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574800" y="272880"/>
            <a:ext cx="511164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restige Pricing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– is based on consumer percep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ems are priced well above the average market price to attract consumers who may judge a product’s quality by its pr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300816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6477120" y="4191120"/>
            <a:ext cx="2361960" cy="1873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5" name="Picture 4" descr="http://raycatena.com/mypictures/headers/lexus2.jpg"/>
          <p:cNvPicPr/>
          <p:nvPr/>
        </p:nvPicPr>
        <p:blipFill>
          <a:blip r:embed="rId2"/>
          <a:stretch/>
        </p:blipFill>
        <p:spPr>
          <a:xfrm>
            <a:off x="3886200" y="4441680"/>
            <a:ext cx="2743200" cy="131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762120" y="2792520"/>
            <a:ext cx="230796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dd-even pric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cing goods with either an odd number or an even number to match the product’s im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dd-pricing suggests a bar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ven-pricing reflect a quality i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200400" y="4130640"/>
            <a:ext cx="333360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arget Pric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cing goods according to what consumers are willing to p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nufactures estimate the target price then work backwards to determine how much to charge wholesalers and retailers for that i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whatasteele.com/wp-content/uploads/Target-Market-Pricing.jpg"/>
          <p:cNvPicPr/>
          <p:nvPr/>
        </p:nvPicPr>
        <p:blipFill>
          <a:blip r:embed="rId1"/>
          <a:stretch/>
        </p:blipFill>
        <p:spPr>
          <a:xfrm>
            <a:off x="3581280" y="4572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pply and Dem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952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astic demand – change in price will affect the dem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elastic demand – product is a necessity, there are no substitutions, a price increase is not significant relative to income, or there are time restrai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rk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95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fference between the retail or wholesale price and the cost of an i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ust be high enough to cover expenses and ensure a prof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328920" y="365760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rket Sh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95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rcentage of total sales of all companies that sell the same type of 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505320" y="2895480"/>
            <a:ext cx="19047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ice L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5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all goods in a product line at a specific price poi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56102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undle Pri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95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several items as a package for a set pr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http://www.packworld.com/sites/default/files/styles/lightbox/public/images/issues/11.02/images/Departments/Gatorade.jpg"/>
          <p:cNvPicPr/>
          <p:nvPr/>
        </p:nvPicPr>
        <p:blipFill>
          <a:blip r:embed="rId1"/>
          <a:stretch/>
        </p:blipFill>
        <p:spPr>
          <a:xfrm>
            <a:off x="2819520" y="2133720"/>
            <a:ext cx="38098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I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specific model or size of 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572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457200" y="2514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of closely relate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457200" y="304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457200" y="40384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the products a company m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apong.info/wp-content/uploads/2012/08/nike-shoes.jpg"/>
          <p:cNvPicPr/>
          <p:nvPr/>
        </p:nvPicPr>
        <p:blipFill>
          <a:blip r:embed="rId1"/>
          <a:stretch/>
        </p:blipFill>
        <p:spPr>
          <a:xfrm>
            <a:off x="7010280" y="533520"/>
            <a:ext cx="1676520" cy="1109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counterkicks.com/wp-content/uploads/2012/07/nike-ctr360-trequartista-cleat-nike-id-81-640x404.jpg"/>
          <p:cNvPicPr/>
          <p:nvPr/>
        </p:nvPicPr>
        <p:blipFill>
          <a:blip r:embed="rId2"/>
          <a:stretch/>
        </p:blipFill>
        <p:spPr>
          <a:xfrm>
            <a:off x="5943600" y="2133720"/>
            <a:ext cx="3048120" cy="19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http://www.sneakerfiles.com/wp-content/uploads/2007/07/nike-kobe-3-clothing-line-4.jpg"/>
          <p:cNvPicPr/>
          <p:nvPr/>
        </p:nvPicPr>
        <p:blipFill>
          <a:blip r:embed="rId3"/>
          <a:stretch/>
        </p:blipFill>
        <p:spPr>
          <a:xfrm>
            <a:off x="380880" y="4495680"/>
            <a:ext cx="2743200" cy="216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http://www.highsnobiety.com/news/wp-content/uploads/2009/08/nike-sb-august-10-540x367.jpg"/>
          <p:cNvPicPr/>
          <p:nvPr/>
        </p:nvPicPr>
        <p:blipFill>
          <a:blip r:embed="rId4"/>
          <a:stretch/>
        </p:blipFill>
        <p:spPr>
          <a:xfrm>
            <a:off x="3505320" y="4800600"/>
            <a:ext cx="2514600" cy="170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http://www.baseballplusstore.com/product_images/p/474/bt0601__22697_zoom.jpg"/>
          <p:cNvPicPr/>
          <p:nvPr/>
        </p:nvPicPr>
        <p:blipFill>
          <a:blip r:embed="rId5"/>
          <a:stretch/>
        </p:blipFill>
        <p:spPr>
          <a:xfrm>
            <a:off x="5334120" y="4648320"/>
            <a:ext cx="361944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oss-leader Pri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295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cing an item at cost or below to draw customers into the sto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2666880" y="5345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89.00 (regularly $100.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Yield-Management Pric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5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cing items at different prices to maximize revenue when limited capacity is involv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071800" y="2438280"/>
            <a:ext cx="50004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ice Fix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95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llegal practice whereby competitors conspire to set the same pr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erman Anti Trust Act prohibits price fix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www.ftc.gov/bcp/edu/microsites/youarehere/pages/images/cinema_shermanact.png"/>
          <p:cNvPicPr/>
          <p:nvPr/>
        </p:nvPicPr>
        <p:blipFill>
          <a:blip r:embed="rId1"/>
          <a:stretch/>
        </p:blipFill>
        <p:spPr>
          <a:xfrm>
            <a:off x="3200400" y="3276720"/>
            <a:ext cx="22860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Clas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sumer G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chased and used by the ultimate consumer for personal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siness Go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4720" y="2174760"/>
            <a:ext cx="40417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chased by the organization for use in their oper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brentwood.thefuntimesguide.com/images/blogs/shoes-and-socks-fleet-feet.jpg"/>
          <p:cNvPicPr/>
          <p:nvPr/>
        </p:nvPicPr>
        <p:blipFill>
          <a:blip r:embed="rId1"/>
          <a:stretch/>
        </p:blipFill>
        <p:spPr>
          <a:xfrm>
            <a:off x="2590920" y="3657600"/>
            <a:ext cx="4114800" cy="2744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int of Differen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unique characteristic or benefit that sets the product apart from a competitor’s 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notflashyjustbright.com/wp-content/uploads/2011/11/2011-World-Series-Sound-Check-Music-Blog.jpeg"/>
          <p:cNvPicPr/>
          <p:nvPr/>
        </p:nvPicPr>
        <p:blipFill>
          <a:blip r:embed="rId1"/>
          <a:stretch/>
        </p:blipFill>
        <p:spPr>
          <a:xfrm>
            <a:off x="2895480" y="2819520"/>
            <a:ext cx="34005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in New Product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OT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 Gen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reening an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siness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rcializ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OT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portun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http://upload.wikimedia.org/wikipedia/commons/thumb/0/0b/SWOT_en.svg/360px-SWOT_en.svg.png"/>
          <p:cNvPicPr/>
          <p:nvPr/>
        </p:nvPicPr>
        <p:blipFill>
          <a:blip r:embed="rId1"/>
          <a:srcRect l="0" t="15323" r="0" b="0"/>
          <a:stretch/>
        </p:blipFill>
        <p:spPr>
          <a:xfrm>
            <a:off x="3505320" y="1447920"/>
            <a:ext cx="441936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cus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anel of six to ten consumers who discuss their opinions about a topic under the guidance of a modera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www.msresearchinc.com/images/Focus%20Group.jpg"/>
          <p:cNvPicPr/>
          <p:nvPr/>
        </p:nvPicPr>
        <p:blipFill>
          <a:blip r:embed="rId1"/>
          <a:stretch/>
        </p:blipFill>
        <p:spPr>
          <a:xfrm>
            <a:off x="2666880" y="342900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rc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process that involves producing and marketing a new produ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Life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roduction – main focus is promoting consumer awareness and getting consumers to try the produc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wth – more competitors enter the marketplace if they see a new product is successful (Powerade/Gatorade) Distribution is importa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turity – sales begin to slow dow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cline – sales begin to drop. Technology advances can cause entire categories to entire decline st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0:25:34Z</dcterms:created>
  <dc:creator>Christina</dc:creator>
  <dc:description/>
  <dc:language>en-US</dc:language>
  <cp:lastModifiedBy>008736</cp:lastModifiedBy>
  <dcterms:modified xsi:type="dcterms:W3CDTF">2012-10-16T14:40:59Z</dcterms:modified>
  <cp:revision>12</cp:revision>
  <dc:subject/>
  <dc:title>Product Design</dc:title>
</cp:coreProperties>
</file>